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66D-B83A-4418-B26E-0D4EBEF1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D1F-E964-4A93-9068-D54E6E7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39F-1C7B-499C-8F5F-B67F52A7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BAA-9A53-42A5-85E0-E47558A9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5E2C-9C81-493A-8AEB-6D06A2B7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1CFB-32BE-4AA2-BB73-0B66629C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B036-E7AD-4036-BAB4-B10C983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37E4-B7B8-41E7-8880-1C7363E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5CE1-219B-4A0F-BF28-59C80247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DDD-8E29-4C1F-99D6-053A597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37A5-B9D1-465A-A9F3-4969E925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51D-22F7-46D0-92C7-6170969A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8815-D653-4845-A4F2-22969BD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82EE-388C-4052-B423-CE5AB199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0964-D2AD-4459-B26E-663627B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2754-E6BA-4D10-82C0-1BBE589A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D09F-B592-4F84-A43B-EC534068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1CE4-B290-464C-8131-3587F4FD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A3D6-9009-4239-A0D3-89276AB3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2FC91-6889-4098-BAB7-2FC7531D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83CB-A5F9-432C-9941-C1C3BA2C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D584-5FB7-48E1-9C6C-A1A0961D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BD8-7545-4910-BC32-89C65DBC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AB89-B7F3-46F5-8453-57119EF3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F21B-9817-4668-A6AC-E81F0577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79B6-FC01-460D-9B0C-59E9209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9D1B-C594-4744-B84D-C958DE4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3E9C-6BAE-4701-B009-184E68D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F845-8F2B-450C-B33F-D1DF13F8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0F12-96BE-40D6-913F-EBBDB569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4FDB-C085-4156-8D1A-E273CBDA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B0C82-E9E3-4838-935E-C9AD4081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28B9-60AC-49F1-AE2D-85E87F90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BEC-3134-4DAE-A400-53787FA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CD66-6AA6-479E-A991-57823E1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8015-C39C-4010-88D8-DA94BE2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0591-5933-4ECA-BFF5-84E97AD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2731-69BF-492F-997F-7CD10DA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E2EE-5624-4B28-9042-137F5925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98E4-C579-41BF-A3DF-B5755F3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CCD3-87BF-48C1-884F-3E5204F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A9F1-7D95-4376-9EDF-7B01ADFE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4550-395A-4C5A-B38D-E936B15A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7BD22-DD9E-4EE4-AA8A-343FA075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0C3-CC5D-40A6-AEEE-2175F9D4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EE695-86FE-43BF-96F3-E437FCAE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0C055-9BB1-4A8C-8E46-E52756E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D5200-BC00-41AC-93D7-5627735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8E76C-ED6D-497B-B0BC-6D6F2FF1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1A343-E50C-46DF-AD7A-FB4E32D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56C60-BFC8-4E8C-B829-23F6FAC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6B7AD-7388-496C-805F-3D64D51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7ACE0-3A27-4BAB-B134-1EFC35D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25A07-E19E-49CF-9AAC-C5B7E7AC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89035-3404-4F8D-B136-23F941B1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468-3CF8-4A11-BC26-8A120AF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07BCA-1DB2-4A00-A91B-8A40BDFD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A0D5-0B6D-4853-B607-2C0107F7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BE1C-2BE8-406B-B3EF-91CF0848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5B29-4107-497D-995E-AFEF68CC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09196-9E36-4C41-A25A-47B1446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9647-9EFB-416E-B59D-B0E011B0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DD58-6ACA-4809-874A-C5F16F65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82998-782E-466F-B268-FB790C64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B6EEB-4895-4222-B8D8-890ACEA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7FB8-BF2E-455C-B614-99A339E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25A-D907-4B0A-AFBB-F2EBB04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B128-0C73-44F3-B605-FDD5DFAB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2D03-7E74-4EFA-A693-A7FBD934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F378-0A1F-4558-85BB-DF4F19D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C93-32B8-414A-A8DB-9AA5186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106-4A98-49C5-904B-338D6F7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9985-6797-4A35-A93B-7AEC6176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7ED-378C-41F4-8C89-1F2E4CCE4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4B63-F51A-4A36-86E6-863ACD04822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55C-E147-4A00-A619-0C2D7C2A36C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5A2-5E33-49A2-BAF4-39BDEDCD1F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A2D6-E48B-4B3D-987C-C5EEE3E783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s Comida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Adam Gr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676160" cy="13622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7621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1905120" cy="13827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04812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s Huevos revuel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1828800" cy="1389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019920" y="3962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s Panque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1676520" y="4724280"/>
            <a:ext cx="1900080" cy="1737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057400" y="64911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724280" y="4724280"/>
            <a:ext cx="1847880" cy="17398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80060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jugo de naran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Almuerz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el almuerzo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5335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Perro calie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276720" y="990720"/>
            <a:ext cx="2714400" cy="31003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320040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Hamburgues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6324480" y="243828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85800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809720" cy="17064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905120" y="6491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 Hamburguesa de  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4876920" y="4800600"/>
            <a:ext cx="1596960" cy="17334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518148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refres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la cena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616040" cy="16765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858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124080" y="2514600"/>
            <a:ext cx="2048040" cy="15350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276720" y="4114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pague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6248520" y="2525760"/>
            <a:ext cx="1828800" cy="1547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6477120" y="40384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Sacó sándwich de carne de cer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2828880" cy="1602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00200" y="6248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stak y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4864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fin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902120" cy="493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2:40Z</dcterms:created>
  <dc:creator>grangerada</dc:creator>
  <dc:description/>
  <dc:language>en-US</dc:language>
  <cp:lastModifiedBy>grangerada</cp:lastModifiedBy>
  <dcterms:modified xsi:type="dcterms:W3CDTF">2011-04-14T15:06:58Z</dcterms:modified>
  <cp:revision>3</cp:revision>
  <dc:subject/>
  <dc:title>Las Comidas</dc:title>
</cp:coreProperties>
</file>